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386-75B5-4640-8260-C0CF3DCB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A6B-9552-464F-A706-5DD8B160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705-6165-448F-89B8-CF70B18B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942-55FF-41A9-A474-F5D5EF18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0D1-8F6C-49D5-9B73-555FB323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B89-A8DD-4449-B42D-3BCEDF3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1F2-C3B6-4A3C-9CB9-100B55EE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BE9-DBC7-45FB-A3A9-26B04C3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92C6-83A5-4BF9-AE05-C39AC19F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D55-4A04-4233-BF54-F6E0F64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B366-2752-4E07-ABE3-CE641F5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043-7EE7-4E6F-B91B-19A4208D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1004-2122-445A-8069-628C5A7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A6F-E4AB-4FEF-B8A9-D28DEE2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916-4356-4191-9350-04F2491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72C-598D-4B4B-97C1-02EDC54C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68D0-E798-49E9-9C96-D368A4B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735-0728-47D2-8C27-8884BCC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D96-8A77-4020-8E7F-AD10825E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BB8-0D8C-4910-B858-67041C9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D74-E683-468B-A66D-4824327D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9AA-3312-468D-A3CC-2683171C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A92-0360-4FC6-A289-627DBA5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339-40B5-4E56-ADE4-8238160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855-8056-4733-AC1C-B44812A9AF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533-4816-4B8D-BAD5-CC2F267BF2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343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777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561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777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89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20560"/>
            <a:ext cx="741672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45252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9:08:14Z</dcterms:modified>
  <cp:revision>7</cp:revision>
  <dc:subject/>
  <dc:title>Схема из источника, ключа и резистора </dc:title>
</cp:coreProperties>
</file>