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2FC-FF08-4CD1-9A60-0019BABA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9059-1B5F-4EBB-ABD8-4E549CF8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196-D27A-4B88-941A-3AA33D35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BFB-BE31-4197-B422-AAE7CB3F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AB29-1A87-4397-A519-D952D83F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6638-C1DE-44C6-8B0D-3CD6E5E6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D09D-0F46-451E-9F74-823689EF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3148-1115-41FF-91A9-29DCD1FF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D4FD-3602-4034-B538-F1707039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A770-43B9-4BA2-8E4D-58E43212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4C32-F430-451A-96E3-828420A5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72E-F303-42D6-89EB-9785DB2D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60E3-ADD3-4DDB-A277-B008DB62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2B3C-1419-460B-BB89-00A1E7D9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8DF6-E986-4EE0-8079-EEDCC38E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AF8F-45FA-4F69-B79C-62FFAE60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C03F-109A-4704-897A-F81170DA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483-92D9-4139-AFA4-E6A478D6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46A-B006-4CF3-AE83-0B42993B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230-B5B7-4906-9822-93BCFAF5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ABA-F4C0-4609-AFAF-13857BAF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8A44-1A4D-4D4D-9803-B7C00A02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1FD-BE79-4853-B27D-45A27D95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AD4-E3A6-41A7-8785-B7AC4C8A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A96E-894E-40E6-92A1-FE10B221CF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38B-55C9-4F16-9919-CAD7116E4E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3436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7770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7561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77708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489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520560"/>
            <a:ext cx="7416720" cy="59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00000" y="452520"/>
            <a:ext cx="78487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7:19:57Z</dcterms:created>
  <dc:creator>User</dc:creator>
  <dc:description/>
  <dc:language>en-US</dc:language>
  <cp:lastModifiedBy>User</cp:lastModifiedBy>
  <dcterms:modified xsi:type="dcterms:W3CDTF">2008-01-10T09:08:14Z</dcterms:modified>
  <cp:revision>7</cp:revision>
  <dc:subject/>
  <dc:title>Схема из источника, ключа и резистора </dc:title>
</cp:coreProperties>
</file>