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D81-34E8-422E-82CF-E20150FA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8D2-A15B-45F5-8170-6F0BC73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561-D8B2-4B37-8120-68C29A2D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03FE-BDDE-4542-B1F9-24BF4B86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1BBD-98D3-4305-9C47-7974F406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6609-EB1B-468D-BD56-577D57A0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50B-DEA3-43D0-A9DE-D739CC7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E9F5-A8CC-44AE-8BF0-B3BF2FAC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B90B-AC58-47C5-AFA6-A1C42790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D9BC-B68A-426F-8CC7-422A487C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5DBF-AA4A-4419-BABE-E80F608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3D3-4865-4618-BD68-E8E5608B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127E-CB03-4850-BB5B-8BB4A3E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929F-26E2-4E8F-9CB9-2ED6E6E2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016E-CB17-4D4D-95CC-8C2CB79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97B5-EABC-41AA-AC07-A4F951B5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61D1-4E0C-4D17-8960-F5CD082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794-3473-4355-B116-68071192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F883-7F70-484E-A185-95174FAA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A9F-38C5-4F9D-92D5-71C9F3E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FBD-AD28-4656-BFA5-ACE1FE0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384-0810-4D90-AAEB-F58C316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D1B-849A-4F96-8DB3-6FC81DE3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894-4329-4ECC-991B-E2B30366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D2A7-7A72-4675-B347-37CB4F452D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E94-4FDC-4E1F-8F11-11862924B1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3137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з источника, ключа и резистора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73436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35156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Две последовательно соединенные лампочки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193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6202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Схема источника, лампочки  и реостата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58920" y="1673280"/>
            <a:ext cx="6480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7:29:10Z</dcterms:modified>
  <cp:revision>4</cp:revision>
  <dc:subject/>
  <dc:title>Схема из источника, ключа и резистора </dc:title>
</cp:coreProperties>
</file>