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2FF-6B70-429C-9413-EC09BCDB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590-3A16-41B0-95F6-72BF5FCB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202A-342A-42B7-954B-EB30B516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B21-8D51-4AAE-8FC4-BD02B9F4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F044-2279-4A20-8204-8AC0847D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35DD-0F25-4A75-8B34-3674C9FB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2C41-4448-40A3-A5CA-ADFB6DB2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4259-8D3A-413A-BC2B-AEDC2CD8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78A7-84DF-4B58-9EB3-F5E09FEE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B7D8-3C9C-4C87-ABF7-A725B4DF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9AF4-49B6-4500-925C-3D2B4B60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CD86-AE2D-4F01-932B-ACA2A7DB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4FA9-1B9D-406C-B768-92BF192A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DB1B-C56E-4FF7-A6DA-B29C88A8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8DCF-6B16-4877-A999-0F665E64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9FCA-C64D-46CE-ACB8-45DEB566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98C1-A320-4CBA-9B63-DD9554F5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14B-902C-450B-8CA8-19FEF03B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C84-0052-4213-80E6-3E35275F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8C4-1FF1-4EE8-8F93-85AE60DA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C83-DC69-4EF4-817E-7E90CB7D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0961-6EA8-4EA2-AC4D-B8817475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ECD-9AE4-4058-ACF3-18E195E2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DF3-3F09-44EF-ACDB-A4DB5594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8FDE-FB07-49A3-8362-2D88C95D452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C38F-3EBB-4FF4-9F96-4B8BAA7167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73137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Схема из источника, ключа и резистора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73436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515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Две последовательно соединенные лампочки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193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Схема источника, лампочки  и реостата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58920" y="1673280"/>
            <a:ext cx="6480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7:19:57Z</dcterms:created>
  <dc:creator>User</dc:creator>
  <dc:description/>
  <dc:language>en-US</dc:language>
  <cp:lastModifiedBy>User</cp:lastModifiedBy>
  <dcterms:modified xsi:type="dcterms:W3CDTF">2008-01-10T07:29:10Z</dcterms:modified>
  <cp:revision>4</cp:revision>
  <dc:subject/>
  <dc:title>Схема из источника, ключа и резистора </dc:title>
</cp:coreProperties>
</file>