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E01-600D-4D16-8F28-79400353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B25-7C19-49B7-AFB2-782623CC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E00-CF59-483E-865C-D12FE3F4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D4C-AABF-48C0-BFA8-8F7189B5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7F92-B06D-4023-9B8D-619D1F87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5CD3-A561-4F8E-84A3-9383115E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9207-DC37-4D6A-A3B8-E68B774F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C55F-4347-46BF-A664-76641F95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339C-480C-432F-93EC-87220290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D9AA-CCD2-423B-BB76-AD145F86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415C-B3F0-457E-833C-6FB1EA9E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81D-FA55-4073-83F2-E774C6C4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B515-F3F7-4D5E-9FE0-13D7B641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A6F7-A19D-4E31-BBF2-655875D9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652F-4D0B-46BF-951E-23242ECB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FF58-C303-4935-9EC9-DA850786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CE79-FAD8-4B23-98D2-CB8A277F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1AC-2082-4321-AE76-0260B1F3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717-F92D-40B7-8583-56535092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181-BDCA-4CFF-AC66-78ADF535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8FF-D5AE-46DE-BB43-3879137A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A65-857E-469A-A8EA-763C5B6B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A6A-7B88-46F5-9C85-A34B9894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C3A-02B5-49CC-A7F5-574CC59E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C981-5361-41FD-B34F-DCC55F4FB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E1D8-4F0C-429D-9692-21C1FA31B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 rot="21540000">
            <a:off x="323640" y="476280"/>
            <a:ext cx="8640720" cy="604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чники </a:t>
            </a:r>
            <a:endParaRPr b="1" i="1" lang="en-US" sz="5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лектрического </a:t>
            </a:r>
            <a:endParaRPr b="1" i="1" lang="en-US" sz="5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ка</a:t>
            </a:r>
            <a:endParaRPr b="1" i="1" lang="en-US" sz="5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920000" cy="5451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Устройство гальванических элементов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Гальванические элементы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4087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Музейная термопара с зеркальным гальванометром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9218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Солнечная батарея спутника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770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Аккумулятор электрический в двигателе автомобиля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17:33Z</dcterms:created>
  <dc:creator>User</dc:creator>
  <dc:description/>
  <dc:language>en-US</dc:language>
  <cp:lastModifiedBy>User</cp:lastModifiedBy>
  <dcterms:modified xsi:type="dcterms:W3CDTF">2008-01-09T21:48:02Z</dcterms:modified>
  <cp:revision>7</cp:revision>
  <dc:subject/>
  <dc:title>Слайд 1</dc:title>
</cp:coreProperties>
</file>