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0E5-4078-4A80-B86A-B63900D8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46E-D30C-4ABC-AC59-D72F7630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EB7-C0E3-4476-B6CD-ABBCD4D8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0AB-BE38-4EEC-81E3-49862F9A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BA38-8C29-4061-B6C4-0F18712B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3727-F8C3-448A-8617-54440F52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1D8C-E8CA-4D06-851A-2E495B96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C9FC-724B-4B65-8BC5-DFC51ADB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314B-735D-4A71-83FC-431EF44E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1ADC-BA40-4D3C-9AE3-DE94BFB7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28F1-5C27-4C73-AD3B-F5B9F21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063-DCB9-41B5-AD3B-C386A187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5FF7-91E3-46A9-B029-99A7E99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E82E-A2E3-461D-A16E-A7DFE77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050B-94E8-4AF2-B394-A7C7CABD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A024-D78B-4AD9-9149-5C19AAEA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769F-98B5-48C0-B550-DC9D57A9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95AD-37B0-48AF-B857-A9758B19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955-9914-4B56-9E86-A072841A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943-5AB6-4EF4-8B2C-B304F0F1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1A0-E8D4-489D-A859-C7D3282C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A77-425F-4E63-940C-46C5C2D4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DA0-7FB2-449C-AA9C-F636459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F0A-C859-4FD7-9B41-7B17F66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9A90-A720-4D8F-B3BB-AE86DF9440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BE71-2ACB-4A5C-9CA9-EB90404014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7313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хема из источника, ключа и резистор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343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ве последовательно соединенные лампочки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хема источника, лампочки  и реостата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1673280"/>
            <a:ext cx="648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9:57Z</dcterms:created>
  <dc:creator>User</dc:creator>
  <dc:description/>
  <dc:language>en-US</dc:language>
  <cp:lastModifiedBy>User</cp:lastModifiedBy>
  <dcterms:modified xsi:type="dcterms:W3CDTF">2008-01-10T07:29:10Z</dcterms:modified>
  <cp:revision>4</cp:revision>
  <dc:subject/>
  <dc:title>Схема из источника, ключа и резистора </dc:title>
</cp:coreProperties>
</file>