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7E7-EEB8-40F3-B2CD-6C190328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D02-0978-491D-8726-6996FE7A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347-7A22-4067-94CD-3F50BB37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63E-311C-4F1A-9F6E-09D0440C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C011-09F4-43CD-8AFC-4343239C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6DA2-1127-4E8E-9C85-A3D649B2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9778-59E2-431B-97C8-DDCBEA2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5610-2A62-4279-B9A4-7954E994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0453-92F2-4356-9052-66BFA3A9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1AC2-3604-4203-A5B2-3CEE3CF0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3837-F00A-4D83-8D5A-BE070139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839-EA2B-49D8-937A-6461FCB1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5D16-2E56-4294-B805-471A455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6147-EF93-423B-A5DB-D1AA237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F65D-961A-4441-9CCA-E6D9D082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12BD-E43E-41E5-9D09-DB1E4A32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7654-235E-4733-A0D2-7118D822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907-A422-42B5-A35F-2797C1BD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A54-F0FC-435B-90C8-431ACB2C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56D-BC7D-4B3A-9FBF-B2771F25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80B-89C5-466B-B332-84B1AE5A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C64-D7A5-4C5A-B672-3F8EBFB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3D2-97EA-48FD-A8D9-FAB3603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5D9-8EE4-468A-9284-558CC2A7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1A31-599D-4A2B-8D36-10BEE7E173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81F7-2467-45D6-A9D6-29DC779B43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3436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777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561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7770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489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520560"/>
            <a:ext cx="7416720" cy="59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452520"/>
            <a:ext cx="78487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19:57Z</dcterms:created>
  <dc:creator>User</dc:creator>
  <dc:description/>
  <dc:language>en-US</dc:language>
  <cp:lastModifiedBy>User</cp:lastModifiedBy>
  <dcterms:modified xsi:type="dcterms:W3CDTF">2008-01-10T09:08:14Z</dcterms:modified>
  <cp:revision>7</cp:revision>
  <dc:subject/>
  <dc:title>Схема из источника, ключа и резистора </dc:title>
</cp:coreProperties>
</file>