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2F0-AFEB-4EE0-9B28-04FA8568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F08-F919-4586-99C4-76CE1C8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69C-A510-4CA1-B1B0-3A693390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C93-8F89-41B0-B6B4-FCEFE5AF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B0F7-4D4B-4D78-8A93-145B1936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D145-ED1D-4AF8-9EE1-84456050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B7B4-8EEA-4D68-A0D5-4D5DF2F4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3DA8-A19E-4B42-A1E9-E290C6F9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73F8-87B8-4204-9D28-C9499CFC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E9BA-53C0-4112-A61C-8C07384F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F59E-76B8-4E82-A9DF-A2DC54C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381-AD07-43CA-AE3D-C951DC9B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94DF-CF9C-4CBB-B477-90364A0B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1DF8-1F9C-478D-8355-5F38515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DABA-1FC3-493B-B29E-7A28BC2A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3DAE-3339-4604-BD47-E9E79140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BFA9-C88F-48F3-82F7-F9390F10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F63-5836-4BA0-B76A-0486CB5E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3EE-7953-4606-8A4B-DED5E536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BB5-929C-40E0-A2CA-1D20219E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28A-779F-45B3-9EAF-135817B1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B58-6D53-4B97-A572-2BE89A7B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6F8-0C65-488D-BED8-AF99A7E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BBD-BBF5-4F02-A9A1-218839CB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1111-EC5B-481B-AE4E-FC1EEBC4D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53FC-5489-4647-AC44-B161A73C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 rot="21540000">
            <a:off x="323640" y="476280"/>
            <a:ext cx="8640720" cy="604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лектрического 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ка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20000" cy="545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Устройство гальванических элементов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Гальванические элементы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408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Музейная термопара с зеркальным гальванометром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921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Солнечная батарея спутника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77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Аккумулятор электрический в двигателе автомобиля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17:33Z</dcterms:created>
  <dc:creator>User</dc:creator>
  <dc:description/>
  <dc:language>en-US</dc:language>
  <cp:lastModifiedBy>User</cp:lastModifiedBy>
  <dcterms:modified xsi:type="dcterms:W3CDTF">2008-01-09T21:48:02Z</dcterms:modified>
  <cp:revision>7</cp:revision>
  <dc:subject/>
  <dc:title>Слайд 1</dc:title>
</cp:coreProperties>
</file>