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82A8-54BE-4613-B76C-FFA685FD9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2A80-3161-4D3B-A0C1-0E1CB7A03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C3FF-4B3F-48EE-BE1B-D0AD3C84A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EB1B-E6EB-4827-BF26-0A1EBF8FF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9B32E-2040-4EE9-94D7-F319A460B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821E9-5F90-4572-8458-A93B7E034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C50AC-64C3-4788-BC61-426D52250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5F49D-360D-4DF8-B356-67BB1504A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A0445-9106-4263-8C11-120EDDE9A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ADC1E-1E83-44A6-BF25-A7F4D6FE5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6CE28-A1DA-46FB-B633-94993B553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87EF-4F9F-4D5D-8440-EAF4ED635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59E43-98B7-4B1E-9260-651D1C5C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E52C2-0FC3-43AD-8FBF-ECA80944F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7E656-9E20-4B09-9D9B-A5DAD9710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E27C9-DA02-4DB5-AD22-E65202321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D9ECB-EA1A-412C-B2EF-A838255D6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3447-623F-4C0F-BB13-56F767528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D1C8-39F9-418C-A709-6BD1A26D7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4D89-128C-4D0D-BD9C-B84E4C546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636D-85DA-4CED-90A7-60E907D78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8FEF-E8BB-4843-BB5A-67F4D557D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1DEF-57DE-4C7D-89C6-CE78ED418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334D-3B49-473E-98F7-82182963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9c696"/>
              </a:gs>
              <a:gs pos="100000">
                <a:srgbClr val="e6e3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CB598-CAE7-4D9D-89E2-33B086E03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AE9EC-3346-48A6-BAA3-2B72D6BFCF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 rot="21540000">
            <a:off x="323640" y="476280"/>
            <a:ext cx="8640720" cy="604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сточники </a:t>
            </a:r>
            <a:endParaRPr b="1" i="1" lang="en-US" sz="5400" spc="1" strike="noStrike">
              <a:ln w="1584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электрического </a:t>
            </a:r>
            <a:endParaRPr b="1" i="1" lang="en-US" sz="5400" spc="1" strike="noStrike">
              <a:ln w="1584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ока</a:t>
            </a:r>
            <a:endParaRPr b="1" i="1" lang="en-US" sz="5400" spc="1" strike="noStrike">
              <a:ln w="1584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684360" y="1197000"/>
            <a:ext cx="7920000" cy="54514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39257"/>
                </a:solidFill>
                <a:latin typeface="Arial"/>
              </a:rPr>
              <a:t>Устройство гальванических элементов</a:t>
            </a:r>
            <a:br>
              <a:rPr sz="4000"/>
            </a:b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39257"/>
                </a:solidFill>
                <a:latin typeface="Arial"/>
              </a:rPr>
              <a:t>Гальванические элементы</a:t>
            </a:r>
            <a:br>
              <a:rPr sz="4000"/>
            </a:b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476360" y="907920"/>
            <a:ext cx="640872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39257"/>
                </a:solidFill>
                <a:latin typeface="Arial"/>
              </a:rPr>
              <a:t>Музейная термопара с зеркальным гальванометром</a:t>
            </a:r>
            <a:br>
              <a:rPr sz="4000"/>
            </a:b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79218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39257"/>
                </a:solidFill>
                <a:latin typeface="Arial"/>
              </a:rPr>
              <a:t>Солнечная батарея спутника</a:t>
            </a:r>
            <a:br>
              <a:rPr sz="4000"/>
            </a:b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77708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39257"/>
                </a:solidFill>
                <a:latin typeface="Arial"/>
              </a:rPr>
              <a:t>Аккумулятор электрический в двигателе автомобиля</a:t>
            </a:r>
            <a:br>
              <a:rPr sz="4000"/>
            </a:b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81360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9T21:17:33Z</dcterms:created>
  <dc:creator>User</dc:creator>
  <dc:description/>
  <dc:language>en-US</dc:language>
  <cp:lastModifiedBy>User</cp:lastModifiedBy>
  <dcterms:modified xsi:type="dcterms:W3CDTF">2008-01-09T21:48:02Z</dcterms:modified>
  <cp:revision>7</cp:revision>
  <dc:subject/>
  <dc:title>Слайд 1</dc:title>
</cp:coreProperties>
</file>